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300-7BE3-4539-9C7D-52FEE15E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630-52A7-4167-B84F-2BEBE85F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D07-6F5F-473C-8826-2BFA7168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F27-063B-4185-997C-4CE469D0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DE2-DEF6-4516-B675-059A03E2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19B-C5CC-40DD-9B1A-29C5816F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86C-F756-4B25-BD98-723C654F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727-7E71-4123-8A3C-5C1C0D00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EA8-F42B-4748-B6FF-5DC17A17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634-CBA4-4C71-BB06-CD61F291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779-820A-44F2-BD99-B436C2DA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906-328B-4A88-B929-F7FEC55D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4687-B9FA-4197-91E8-34EA960C07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1401840" y="220680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573200" y="26640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1328760" y="313380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18525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3"/>
          <a:stretch/>
        </p:blipFill>
        <p:spPr>
          <a:xfrm>
            <a:off x="2090880" y="454824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4"/>
          <a:stretch/>
        </p:blipFill>
        <p:spPr>
          <a:xfrm>
            <a:off x="1779480" y="411480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5"/>
          <a:stretch/>
        </p:blipFill>
        <p:spPr>
          <a:xfrm>
            <a:off x="1328760" y="364500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9637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6" descr=""/>
          <p:cNvPicPr/>
          <p:nvPr/>
        </p:nvPicPr>
        <p:blipFill>
          <a:blip r:embed="rId3"/>
          <a:stretch/>
        </p:blipFill>
        <p:spPr>
          <a:xfrm>
            <a:off x="1395360" y="2414520"/>
            <a:ext cx="3541680" cy="5778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4"/>
          <a:stretch/>
        </p:blipFill>
        <p:spPr>
          <a:xfrm>
            <a:off x="42840" y="3206880"/>
            <a:ext cx="76564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2:32Z</dcterms:created>
  <dc:creator/>
  <dc:description/>
  <dc:language>en-US</dc:language>
  <cp:lastModifiedBy/>
  <dcterms:modified xsi:type="dcterms:W3CDTF">2011-12-08T11:52:37Z</dcterms:modified>
  <cp:revision>1</cp:revision>
  <dc:subject/>
  <dc:title/>
</cp:coreProperties>
</file>